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166-20A3-4551-97B2-2F88B0CB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8EA-1918-4D81-8978-BE98F210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B91-2D07-4C9F-AE15-F837B28F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40F-EFEC-4F3F-B1A5-EBF753EB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107-FB90-4182-90CA-B766EAE0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D12-DE60-4AAA-9146-A4B4BF2F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BCC-C47B-4078-A7AE-7DDEE068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806-9279-4E41-A538-9770D546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F8F-7F13-4CC5-9A0F-AE411085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DF3-A149-4395-9E69-9FE126D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FFC-3854-4B1E-9FFD-7B90071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FBC-AB78-4DC2-81EB-4D194A07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6CD7-CD24-482A-A54B-57BA5472CF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68360" y="260280"/>
            <a:ext cx="40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llo 4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2879640" cy="316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1268280"/>
            <a:ext cx="4176720" cy="1440000"/>
          </a:xfrm>
          <a:prstGeom prst="wedgeRoundRectCallout">
            <a:avLst>
              <a:gd name="adj1" fmla="val -77745"/>
              <a:gd name="adj2" fmla="val 75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egin with a quick game to get acquainted with each 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32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name i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4149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I have never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365720"/>
            <a:ext cx="7848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rm is the wat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365720"/>
            <a:ext cx="78487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water is in the cup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365720"/>
            <a:ext cx="7848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is the paperclip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365720"/>
            <a:ext cx="78487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I get the stones separate to the wate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de is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metals are magnet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5ml of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separate the soil and wa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200ml of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will the elastic band stret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47640" y="2133720"/>
            <a:ext cx="6121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97360"/>
            <a:ext cx="3456000" cy="136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of when you hear this wor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will the car trave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robot "/>
          <p:cNvPicPr/>
          <p:nvPr/>
        </p:nvPicPr>
        <p:blipFill>
          <a:blip r:embed="rId1"/>
          <a:stretch/>
        </p:blipFill>
        <p:spPr>
          <a:xfrm>
            <a:off x="684360" y="1844640"/>
            <a:ext cx="4084560" cy="472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284720" y="333360"/>
            <a:ext cx="45864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Time to to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your sco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robot "/>
          <p:cNvPicPr/>
          <p:nvPr/>
        </p:nvPicPr>
        <p:blipFill>
          <a:blip r:embed="rId1"/>
          <a:stretch/>
        </p:blipFill>
        <p:spPr>
          <a:xfrm>
            <a:off x="179280" y="1916280"/>
            <a:ext cx="4084920" cy="472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84720" y="333360"/>
            <a:ext cx="4586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Superchalle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492280"/>
            <a:ext cx="410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ow me.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robot "/>
          <p:cNvPicPr/>
          <p:nvPr/>
        </p:nvPicPr>
        <p:blipFill>
          <a:blip r:embed="rId1"/>
          <a:stretch/>
        </p:blipFill>
        <p:spPr>
          <a:xfrm>
            <a:off x="179280" y="1916280"/>
            <a:ext cx="408492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32000" y="1052640"/>
            <a:ext cx="4824720" cy="1439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cientists in training.. What have you learned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375" t="8618" r="5688" b="9287"/>
          <a:stretch/>
        </p:blipFill>
        <p:spPr>
          <a:xfrm>
            <a:off x="2771640" y="1916280"/>
            <a:ext cx="3600720" cy="23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58920" y="1700280"/>
            <a:ext cx="691344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does a good Scientist ne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03640" y="4292640"/>
            <a:ext cx="2950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ed to do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robot "/>
          <p:cNvPicPr/>
          <p:nvPr/>
        </p:nvPicPr>
        <p:blipFill>
          <a:blip r:embed="rId1"/>
          <a:stretch/>
        </p:blipFill>
        <p:spPr>
          <a:xfrm>
            <a:off x="324000" y="2781360"/>
            <a:ext cx="3525840" cy="407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71640" y="1268280"/>
            <a:ext cx="4032360" cy="2016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my name is 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here to help with your training and your……Xperiments. Tee He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let’s begin….lesson number 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robot "/>
          <p:cNvPicPr/>
          <p:nvPr/>
        </p:nvPicPr>
        <p:blipFill>
          <a:blip r:embed="rId1"/>
          <a:stretch/>
        </p:blipFill>
        <p:spPr>
          <a:xfrm>
            <a:off x="0" y="3716280"/>
            <a:ext cx="2717640" cy="314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116000" y="33336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Using Scientific Equip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637000"/>
            <a:ext cx="3313080" cy="129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 Earthlings- what science equipment can you n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4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robot "/>
          <p:cNvPicPr/>
          <p:nvPr/>
        </p:nvPicPr>
        <p:blipFill>
          <a:blip r:embed="rId1"/>
          <a:stretch/>
        </p:blipFill>
        <p:spPr>
          <a:xfrm>
            <a:off x="0" y="3716280"/>
            <a:ext cx="2717640" cy="314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765000"/>
            <a:ext cx="755964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's in the box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306036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4005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science 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5157720"/>
            <a:ext cx="3024000" cy="792360"/>
          </a:xfrm>
          <a:prstGeom prst="wedgeRoundRectCallout">
            <a:avLst>
              <a:gd name="adj1" fmla="val -90578"/>
              <a:gd name="adj2" fmla="val -113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or a g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robot "/>
          <p:cNvPicPr/>
          <p:nvPr/>
        </p:nvPicPr>
        <p:blipFill>
          <a:blip r:embed="rId1"/>
          <a:stretch/>
        </p:blipFill>
        <p:spPr>
          <a:xfrm>
            <a:off x="250920" y="1484280"/>
            <a:ext cx="4647960" cy="5373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0000" y="549360"/>
            <a:ext cx="5040000" cy="2303280"/>
          </a:xfrm>
          <a:prstGeom prst="wedgeRoundRectCallout">
            <a:avLst>
              <a:gd name="adj1" fmla="val -60486"/>
              <a:gd name="adj2" fmla="val 60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…are you ready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SCIENCE SUPERCHALLE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00720" y="333360"/>
            <a:ext cx="3485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Rul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robot "/>
          <p:cNvPicPr/>
          <p:nvPr/>
        </p:nvPicPr>
        <p:blipFill>
          <a:blip r:embed="rId1"/>
          <a:stretch/>
        </p:blipFill>
        <p:spPr>
          <a:xfrm>
            <a:off x="0" y="2492280"/>
            <a:ext cx="3524400" cy="407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00720" y="1471680"/>
            <a:ext cx="4392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 will be sh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eam must work together to solve th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done it- record your answer on the whiteboard and sound your symb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ints for using the correct equi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ints for naming the equi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int for the correct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692280"/>
            <a:ext cx="2881080" cy="1441440"/>
          </a:xfrm>
          <a:prstGeom prst="wedgeRoundRectCallout">
            <a:avLst>
              <a:gd name="adj1" fmla="val -30000"/>
              <a:gd name="adj2" fmla="val 97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 humanoid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4365720"/>
            <a:ext cx="78487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is the piece of string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9:33:44Z</dcterms:created>
  <dc:creator>Keeley</dc:creator>
  <dc:description/>
  <dc:language>en-US</dc:language>
  <cp:lastModifiedBy>k.bailey</cp:lastModifiedBy>
  <dcterms:modified xsi:type="dcterms:W3CDTF">2009-10-12T12:48:21Z</dcterms:modified>
  <cp:revision>3</cp:revision>
  <dc:subject/>
  <dc:title>Slide 1</dc:title>
</cp:coreProperties>
</file>